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1B3C-4DB9-4A21-9B94-270A9986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DBDC-B916-4868-9E6F-AD62ACD1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6B13-E4E4-4C11-9437-7821D6ACB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F976-9C4F-4EBC-84BA-14F5D0A0E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EBD59-211F-4920-9379-7F17A43D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84F3B-56C1-47E0-868E-C840094B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573AB-D076-4B80-BBB2-BDC44C7F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7C5B7-6F44-4D8D-8891-4E78E6F7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5E4EE-2DDA-4C16-BFDF-174BA1F4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69A80-1722-494C-926F-7CC4BD87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C7748-3186-4011-989B-FF11DDC9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E4EB-C004-4B90-BED6-A677D765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B6C42-64D7-4B04-A9A7-17BF21E8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189D8-CE6B-43AA-869F-FFE63EAA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524E9-2829-4785-9F1C-9028D1A8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A4967-59EC-4938-AD40-A95AE226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40B47-D631-4E33-88B8-539C9272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F10F8-F723-4406-9E36-670E787B0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7EA1C-F7CD-4B03-9719-DB9DFF65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89396-B814-404D-A5AD-3A01AA56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A9926-41A1-4677-8D67-7A82F1B8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D86BF-29EA-4AF4-97E2-7236891C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FEFF-E654-4CA7-9363-48DAC8B6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25BA3-1ACB-4BA1-AB9B-C5B9A425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44DFB-0BBB-4524-BA7B-2856AB1D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679FC-6E5E-4348-8DEE-8CFF6F42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BCE58-126B-4881-AF2D-8ABD901E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4DC79-8AE8-4282-82C4-344FB072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E18ED-B479-4AB1-88FF-C391C95E6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FD3EA-7ADD-4DC8-93AB-0418AC9E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A6E1D9-BC11-4D87-BCA1-FCB7EA221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7DC4D5-1066-4485-BCD6-6934E2D6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C332B4-172E-416D-8F5A-172F7CD4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2127-C5F6-4988-9748-B0C77C23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5AF20B-71B9-4B10-AAC2-2E2538F6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C21CE3-7497-44CF-BE61-38FA0DDE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5837A2-6B77-4562-976C-1E76939D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715817-E06E-4441-B264-9A231D01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385A08-C1B0-4210-B274-51E5805E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93FB47-4A67-41FA-8902-E2431CCB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D17FDC-89CB-4F8E-8D40-6F5F4431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1D9520-C360-4DCF-9884-7D7CC8185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7DBC9C-DED0-47DE-A6BD-B6800F577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DAF9-43BD-4CD0-9942-898F3AE4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B77F-53BE-4110-8EBC-2A601763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24B9-A59B-4237-85BF-352FE098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7040-7DAF-4BCD-8624-9DFD24C3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70A0-DC0D-4646-B066-D5FB9026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957E-33BC-460C-9786-B0EAC5BF3502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Conector recto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7 Conector recto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8 Elipse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15DC-0FF0-4B1E-9C9E-E3DDFD7DD33B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6 Conector recto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5872-3789-47BD-8479-9D430BE67CA0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6 Conector recto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7 Conector recto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7170-E730-49E7-B443-2AF13D5F215B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onricardo2006@hotmail.co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onografias.com/trabajos11/empre/empre.shtml" TargetMode="External"/><Relationship Id="rId2" Type="http://schemas.openxmlformats.org/officeDocument/2006/relationships/hyperlink" Target="http://www.monografias.com/trabajos11/sercli/sercli.shtml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440"/>
            <a:ext cx="830592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9c85c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r. Luis Ricardo Villalobos Zamora</a:t>
            </a:r>
            <a:br>
              <a:rPr sz="2400"/>
            </a:br>
            <a:r>
              <a:rPr b="0" lang="es-ES" sz="2400" spc="-1" strike="noStrike" u="sng">
                <a:solidFill>
                  <a:srgbClr val="8e58b6"/>
                </a:solidFill>
                <a:uFillTx/>
                <a:latin typeface="Arial"/>
                <a:ea typeface="Arial"/>
                <a:hlinkClick r:id="rId1"/>
              </a:rPr>
              <a:t>donricardo2006@hotmail.com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Tel (+506 )8837 5773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1 Título" descr=""/>
          <p:cNvPicPr/>
          <p:nvPr/>
        </p:nvPicPr>
        <p:blipFill>
          <a:blip r:embed="rId2"/>
          <a:stretch/>
        </p:blipFill>
        <p:spPr>
          <a:xfrm>
            <a:off x="457200" y="1432080"/>
            <a:ext cx="83152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DENTRO DE LA CARPETA ANTERIOR ABRA   </a:t>
            </a:r>
            <a:r>
              <a:rPr b="1" lang="es-ES" sz="2600" spc="-1" strike="noStrike">
                <a:solidFill>
                  <a:srgbClr val="ff0000"/>
                </a:solidFill>
                <a:latin typeface="Constantia"/>
              </a:rPr>
              <a:t>SEIS </a:t>
            </a: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  CARPETAS  Y PÓNGALES LOS SIGUIENTES NOMBR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600" spc="-1" strike="noStrike">
                <a:solidFill>
                  <a:srgbClr val="ffffff"/>
                </a:solidFill>
                <a:latin typeface="Constantia"/>
              </a:rPr>
              <a:t>Empleabilidad de la carrera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600" spc="-1" strike="noStrike">
                <a:solidFill>
                  <a:srgbClr val="ffffff"/>
                </a:solidFill>
                <a:latin typeface="Constantia"/>
              </a:rPr>
              <a:t>Población met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CR" sz="2600" spc="-1" strike="noStrike">
                <a:solidFill>
                  <a:srgbClr val="ffffff"/>
                </a:solidFill>
                <a:latin typeface="Constantia"/>
              </a:rPr>
              <a:t>Objeto de estudi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Tipo  de concepción curricular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Visión y Misió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Historia (UNAH y carrera)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0" name="2 Título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35684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2 Título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1 Título" descr=""/>
          <p:cNvPicPr/>
          <p:nvPr/>
        </p:nvPicPr>
        <p:blipFill>
          <a:blip r:embed="rId1"/>
          <a:stretch/>
        </p:blipFill>
        <p:spPr>
          <a:xfrm>
            <a:off x="438120" y="133200"/>
            <a:ext cx="8267760" cy="1257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857160" y="1500120"/>
            <a:ext cx="77724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900" spc="-1" strike="noStrike">
                <a:solidFill>
                  <a:srgbClr val="ffffff"/>
                </a:solidFill>
                <a:latin typeface="Constantia"/>
              </a:rPr>
              <a:t>SUBDIMENSIONES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2.1 EMPLEABILIDAD DE LA CARRERA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Necesidades laborales y académicas en el país  que respalden la apertura o modificación de la carrera. Considerar el contexto socioeconómico y político del país y sustentarlo con datos estadísticos de la realidad nacional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2.2  OBJETO DE ESTUDIO O NATURALEZA DE LA CARRERA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Debe ser evidenciado y conceptualizado con amplitud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2.3   POBLACIÓN META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15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Especificar el campo ocupacional de los egresados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15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1" lang="es-ES" sz="1600" spc="-1" strike="noStrike">
                <a:solidFill>
                  <a:srgbClr val="ffffff"/>
                </a:solidFill>
                <a:latin typeface="Constantia"/>
              </a:rPr>
              <a:t>Plantear </a:t>
            </a: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 los intereses, motivaciones y expectativas de los y las  estudiantes y su relación con  la dimensión axiológica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15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Plantear la orientación humanista en la formación del estudi</a:t>
            </a:r>
            <a:r>
              <a:rPr b="0" lang="es-CR" sz="1600" spc="-1" strike="noStrike">
                <a:solidFill>
                  <a:srgbClr val="ffffff"/>
                </a:solidFill>
                <a:latin typeface="Constantia"/>
              </a:rPr>
              <a:t>antado</a:t>
            </a:r>
            <a:r>
              <a:rPr b="0" lang="es-CR" sz="1600" spc="-1" strike="noStrike">
                <a:solidFill>
                  <a:srgbClr val="002060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1 Título" descr=""/>
          <p:cNvPicPr/>
          <p:nvPr/>
        </p:nvPicPr>
        <p:blipFill>
          <a:blip r:embed="rId1"/>
          <a:stretch/>
        </p:blipFill>
        <p:spPr>
          <a:xfrm>
            <a:off x="438120" y="133200"/>
            <a:ext cx="8267760" cy="12574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857160" y="149976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200" spc="-1" strike="noStrike">
                <a:solidFill>
                  <a:srgbClr val="002060"/>
                </a:solidFill>
                <a:latin typeface="Arial"/>
                <a:ea typeface="Arial"/>
              </a:rPr>
              <a:t>SUBDIMENSION 2.5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200" spc="-1" strike="noStrike">
                <a:solidFill>
                  <a:srgbClr val="002060"/>
                </a:solidFill>
                <a:latin typeface="Constantia"/>
              </a:rPr>
              <a:t>Enfoque curricular por competencia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2060"/>
                </a:solidFill>
                <a:latin typeface="Constantia"/>
              </a:rPr>
              <a:t>   </a:t>
            </a:r>
            <a:r>
              <a:rPr b="0" lang="es-CR" sz="2200" spc="-1" strike="noStrike">
                <a:solidFill>
                  <a:srgbClr val="002060"/>
                </a:solidFill>
                <a:latin typeface="Constantia"/>
              </a:rPr>
              <a:t>Sustenta la estructura del plan de estudios de la carrera, ( respalda la propuesta) y define aspectos tales como: metodología, estrategias de aprendizaje y evaluación de aprendizajes, que permitan identificar, tanto las características de aprendizaje de los estudiantes como la coherencia de los elementos del plan de estudios presentado</a:t>
            </a:r>
            <a:r>
              <a:rPr b="0" lang="es-CR" sz="22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200" spc="-1" strike="noStrike">
                <a:solidFill>
                  <a:srgbClr val="002060"/>
                </a:solidFill>
                <a:latin typeface="Arial"/>
                <a:ea typeface="Arial"/>
              </a:rPr>
              <a:t>SUBDIMENSIÓN 2.6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200" spc="-1" strike="noStrike">
                <a:solidFill>
                  <a:srgbClr val="002060"/>
                </a:solidFill>
                <a:latin typeface="Constantia"/>
              </a:rPr>
              <a:t>Historia 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200" spc="-1" strike="noStrike">
                <a:solidFill>
                  <a:srgbClr val="002060"/>
                </a:solidFill>
                <a:latin typeface="Constantia"/>
              </a:rPr>
              <a:t>UNAH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2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1" lang="es-CR" sz="2200" spc="-1" strike="noStrike">
                <a:solidFill>
                  <a:srgbClr val="002060"/>
                </a:solidFill>
                <a:latin typeface="Constantia"/>
              </a:rPr>
              <a:t>carrera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1 Título" descr=""/>
          <p:cNvPicPr/>
          <p:nvPr/>
        </p:nvPicPr>
        <p:blipFill>
          <a:blip r:embed="rId1"/>
          <a:stretch/>
        </p:blipFill>
        <p:spPr>
          <a:xfrm>
            <a:off x="438120" y="133200"/>
            <a:ext cx="8267760" cy="1257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857160" y="149976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SUBDIMENSION 2.5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nstantia"/>
              </a:rPr>
              <a:t>,  </a:t>
            </a:r>
            <a:r>
              <a:rPr b="0" lang="es-CR" sz="2400" spc="-1" strike="noStrike">
                <a:solidFill>
                  <a:srgbClr val="ffffff"/>
                </a:solidFill>
                <a:latin typeface="Constanti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3 Rectángulo"/>
          <p:cNvSpPr/>
          <p:nvPr/>
        </p:nvSpPr>
        <p:spPr>
          <a:xfrm>
            <a:off x="1143000" y="2500200"/>
            <a:ext cx="164304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2060"/>
                </a:solidFill>
                <a:latin typeface="Constantia"/>
              </a:rPr>
              <a:t>Visión</a:t>
            </a:r>
            <a:r>
              <a:rPr b="1" lang="es-ES" sz="18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4 Rectángulo"/>
          <p:cNvSpPr/>
          <p:nvPr/>
        </p:nvSpPr>
        <p:spPr>
          <a:xfrm>
            <a:off x="3143160" y="2000160"/>
            <a:ext cx="492912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ES" sz="1800" spc="-1" strike="noStrike">
                <a:solidFill>
                  <a:srgbClr val="002060"/>
                </a:solidFill>
                <a:latin typeface="Constantia"/>
              </a:rPr>
              <a:t>Es  el “SER “de la universida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onstantia"/>
              </a:rPr>
              <a:t>y  la carrera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nstantia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5 Rectángulo redondeado"/>
          <p:cNvSpPr/>
          <p:nvPr/>
        </p:nvSpPr>
        <p:spPr>
          <a:xfrm>
            <a:off x="3286080" y="2857680"/>
            <a:ext cx="4643640" cy="100008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onstantia"/>
              </a:rPr>
              <a:t>APORTA   EL “QUÉ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onstantia"/>
              </a:rPr>
              <a:t>Responde a la pregunta ¿qué  es  la institución (o carrera) 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6 Rectángulo"/>
          <p:cNvSpPr/>
          <p:nvPr/>
        </p:nvSpPr>
        <p:spPr>
          <a:xfrm>
            <a:off x="1143000" y="4214880"/>
            <a:ext cx="171468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1" lang="es-ES" sz="1800" spc="-1" strike="noStrike">
                <a:solidFill>
                  <a:srgbClr val="002060"/>
                </a:solidFill>
                <a:latin typeface="Constantia"/>
              </a:rPr>
              <a:t>Mis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7 Rectángulo"/>
          <p:cNvSpPr/>
          <p:nvPr/>
        </p:nvSpPr>
        <p:spPr>
          <a:xfrm>
            <a:off x="3357720" y="3929040"/>
            <a:ext cx="4714560" cy="85716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onstantia"/>
              </a:rPr>
              <a:t>Es  el propósito de  la universida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onstantia"/>
              </a:rPr>
              <a:t>y de la carrera </a:t>
            </a:r>
            <a:r>
              <a:rPr b="0" lang="es-ES" sz="1800" spc="-1" strike="noStrike">
                <a:solidFill>
                  <a:srgbClr val="ffffff"/>
                </a:solidFill>
                <a:latin typeface="Constantia"/>
              </a:rPr>
              <a:t>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8 Rectángulo redondeado"/>
          <p:cNvSpPr/>
          <p:nvPr/>
        </p:nvSpPr>
        <p:spPr>
          <a:xfrm>
            <a:off x="3214800" y="4929120"/>
            <a:ext cx="4786200" cy="1285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onstantia"/>
              </a:rPr>
              <a:t>Aporta  el “ PARA  QUÉ”  .Responde a la pregunta ¿  para qué existe la universidad ( o la carrera)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9 Flecha arriba y abajo"/>
          <p:cNvSpPr/>
          <p:nvPr/>
        </p:nvSpPr>
        <p:spPr>
          <a:xfrm>
            <a:off x="1714680" y="3357720"/>
            <a:ext cx="500040" cy="857160"/>
          </a:xfrm>
          <a:prstGeom prst="upDownArrow">
            <a:avLst>
              <a:gd name="adj1" fmla="val 50000"/>
              <a:gd name="adj2" fmla="val 49997"/>
            </a:avLst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5" name="11 Conector recto de flecha"/>
          <p:cNvCxnSpPr>
            <a:stCxn id="178" idx="3"/>
            <a:endCxn id="179" idx="1"/>
          </p:cNvCxnSpPr>
          <p:nvPr/>
        </p:nvCxnSpPr>
        <p:spPr>
          <a:xfrm flipV="1">
            <a:off x="2786040" y="2393280"/>
            <a:ext cx="357840" cy="5007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6" name="13 Conector recto de flecha"/>
          <p:cNvCxnSpPr>
            <a:stCxn id="178" idx="3"/>
            <a:endCxn id="180" idx="1"/>
          </p:cNvCxnSpPr>
          <p:nvPr/>
        </p:nvCxnSpPr>
        <p:spPr>
          <a:xfrm>
            <a:off x="2785680" y="2894040"/>
            <a:ext cx="500760" cy="4644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7" name="15 Conector recto de flecha"/>
          <p:cNvCxnSpPr>
            <a:stCxn id="181" idx="3"/>
          </p:cNvCxnSpPr>
          <p:nvPr/>
        </p:nvCxnSpPr>
        <p:spPr>
          <a:xfrm flipV="1">
            <a:off x="2857320" y="4285440"/>
            <a:ext cx="643320" cy="322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8" name="17 Conector recto de flecha"/>
          <p:cNvCxnSpPr>
            <a:stCxn id="181" idx="3"/>
          </p:cNvCxnSpPr>
          <p:nvPr/>
        </p:nvCxnSpPr>
        <p:spPr>
          <a:xfrm>
            <a:off x="2857320" y="4608000"/>
            <a:ext cx="286200" cy="964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04480" indent="-204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2060"/>
                </a:solidFill>
                <a:latin typeface="Constantia"/>
              </a:rPr>
              <a:t>Somos una exitosa </a:t>
            </a:r>
            <a:r>
              <a:rPr b="0" lang="es-ES" sz="2600" spc="-1" strike="noStrike" u="sng">
                <a:solidFill>
                  <a:srgbClr val="8e58b6"/>
                </a:solidFill>
                <a:uFillTx/>
                <a:latin typeface="Constantia"/>
                <a:hlinkClick r:id="rId1"/>
              </a:rPr>
              <a:t>empresa</a:t>
            </a:r>
            <a:r>
              <a:rPr b="1" lang="es-ES" sz="2600" spc="-1" strike="noStrike">
                <a:solidFill>
                  <a:srgbClr val="002060"/>
                </a:solidFill>
                <a:latin typeface="Constantia"/>
              </a:rPr>
              <a:t> detallista de bienes y servicios, reconocida por su capacidad de generar bienestar para nuestros </a:t>
            </a:r>
            <a:r>
              <a:rPr b="0" lang="es-ES" sz="2600" spc="-1" strike="noStrike" u="sng">
                <a:solidFill>
                  <a:srgbClr val="8e58b6"/>
                </a:solidFill>
                <a:uFillTx/>
                <a:latin typeface="Constantia"/>
                <a:hlinkClick r:id="rId2"/>
              </a:rPr>
              <a:t>clientes</a:t>
            </a:r>
            <a:r>
              <a:rPr b="1" lang="es-ES" sz="2600" spc="-1" strike="noStrike">
                <a:solidFill>
                  <a:srgbClr val="002060"/>
                </a:solidFill>
                <a:latin typeface="Constantia"/>
              </a:rPr>
              <a:t>, colaboradores, accionistas, y nuestra comunidad en general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04480" indent="-20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1" lang="es-ES" sz="2600" spc="-1" strike="noStrike">
                <a:solidFill>
                  <a:srgbClr val="002060"/>
                </a:solidFill>
                <a:latin typeface="Constantia"/>
              </a:rPr>
              <a:t>¿VISIÓN  o MISION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04480" indent="-20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2060"/>
                </a:solidFill>
                <a:latin typeface="Constantia"/>
              </a:rPr>
              <a:t>  </a:t>
            </a:r>
            <a:r>
              <a:rPr b="1" lang="es-ES" sz="2600" spc="-1" strike="noStrike">
                <a:solidFill>
                  <a:srgbClr val="002060"/>
                </a:solidFill>
                <a:latin typeface="Constantia"/>
              </a:rPr>
              <a:t>Satisfacer a nuestros clientes, brindándoles, al mejor precio posible, productos y servicios de calidad, adecuados a sus necesidades; y exceder sus expectativas, sirviéndoles con esmero, originalidad, y atención a los detalles</a:t>
            </a:r>
            <a:r>
              <a:rPr b="0" lang="es-E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04480" indent="-20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2060"/>
                </a:solidFill>
                <a:latin typeface="Constantia"/>
              </a:rPr>
              <a:t>¿VISIÓN  o MISION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04480" indent="-204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0" name="2 Título" descr=""/>
          <p:cNvPicPr/>
          <p:nvPr/>
        </p:nvPicPr>
        <p:blipFill>
          <a:blip r:embed="rId3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500040" y="15717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            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                                   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QUÉ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                               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OC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2 Título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193" name="4 Rectángulo"/>
          <p:cNvSpPr/>
          <p:nvPr/>
        </p:nvSpPr>
        <p:spPr>
          <a:xfrm>
            <a:off x="3500280" y="1571760"/>
            <a:ext cx="4143600" cy="1000080"/>
          </a:xfrm>
          <a:prstGeom prst="rect">
            <a:avLst/>
          </a:prstGeom>
          <a:solidFill>
            <a:srgbClr val="e7bc29"/>
          </a:solidFill>
          <a:ln w="38160">
            <a:solidFill>
              <a:srgbClr val="aa89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Constantia"/>
              </a:rPr>
              <a:t>1.EMPLEABILIDAD DE LA CARRER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5 Rectángulo redondeado"/>
          <p:cNvSpPr/>
          <p:nvPr/>
        </p:nvSpPr>
        <p:spPr>
          <a:xfrm>
            <a:off x="4929120" y="4714920"/>
            <a:ext cx="1643040" cy="1571760"/>
          </a:xfrm>
          <a:prstGeom prst="roundRect">
            <a:avLst>
              <a:gd name="adj" fmla="val 16667"/>
            </a:avLst>
          </a:prstGeom>
          <a:solidFill>
            <a:srgbClr val="9c85c0"/>
          </a:solidFill>
          <a:ln w="38160">
            <a:solidFill>
              <a:srgbClr val="716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CR" sz="1800" spc="-1" strike="noStrike">
                <a:solidFill>
                  <a:srgbClr val="000000"/>
                </a:solidFill>
                <a:latin typeface="Constantia"/>
              </a:rPr>
              <a:t>3.OBJETO DE ESTUD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6 Rectángulo redondeado"/>
          <p:cNvSpPr/>
          <p:nvPr/>
        </p:nvSpPr>
        <p:spPr>
          <a:xfrm>
            <a:off x="6000840" y="2786040"/>
            <a:ext cx="2143080" cy="171468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Constantia"/>
              </a:rPr>
              <a:t>2.POBL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Constantia"/>
              </a:rPr>
              <a:t>ME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7 Rectángulo redondeado"/>
          <p:cNvSpPr/>
          <p:nvPr/>
        </p:nvSpPr>
        <p:spPr>
          <a:xfrm>
            <a:off x="1214280" y="4786200"/>
            <a:ext cx="2214720" cy="1357560"/>
          </a:xfrm>
          <a:prstGeom prst="roundRect">
            <a:avLst>
              <a:gd name="adj" fmla="val 16667"/>
            </a:avLst>
          </a:prstGeom>
          <a:solidFill>
            <a:srgbClr val="809ec2"/>
          </a:solidFill>
          <a:ln w="38160">
            <a:solidFill>
              <a:srgbClr val="5c73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4.TIPO  DE CONCEPCIÓN CURRICUL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8 Rectángulo redondeado"/>
          <p:cNvSpPr/>
          <p:nvPr/>
        </p:nvSpPr>
        <p:spPr>
          <a:xfrm>
            <a:off x="428760" y="3000240"/>
            <a:ext cx="2500200" cy="1500480"/>
          </a:xfrm>
          <a:prstGeom prst="roundRect">
            <a:avLst>
              <a:gd name="adj" fmla="val 16667"/>
            </a:avLst>
          </a:prstGeom>
          <a:solidFill>
            <a:srgbClr val="f3a447"/>
          </a:solidFill>
          <a:ln w="38160">
            <a:solidFill>
              <a:srgbClr val="b377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5.VISION Y MIS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onstantia"/>
              </a:rPr>
              <a:t>DE LA UNIVERSIDA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onstantia"/>
              </a:rPr>
              <a:t>DE LA CARRER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8" name="10 Conector recto de flecha"/>
          <p:cNvCxnSpPr/>
          <p:nvPr/>
        </p:nvCxnSpPr>
        <p:spPr>
          <a:xfrm flipV="1">
            <a:off x="4285080" y="2714040"/>
            <a:ext cx="2520" cy="5720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9" name="12 Conector recto de flecha"/>
          <p:cNvCxnSpPr/>
          <p:nvPr/>
        </p:nvCxnSpPr>
        <p:spPr>
          <a:xfrm>
            <a:off x="5143320" y="3714840"/>
            <a:ext cx="929160" cy="21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0" name="14 Conector recto de flecha"/>
          <p:cNvCxnSpPr/>
          <p:nvPr/>
        </p:nvCxnSpPr>
        <p:spPr>
          <a:xfrm>
            <a:off x="5214600" y="4286160"/>
            <a:ext cx="572040" cy="3578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1" name="19 Conector recto de flecha"/>
          <p:cNvCxnSpPr/>
          <p:nvPr/>
        </p:nvCxnSpPr>
        <p:spPr>
          <a:xfrm flipH="1" flipV="1">
            <a:off x="3000240" y="3642480"/>
            <a:ext cx="643320" cy="25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2" name="21 Conector recto de flecha"/>
          <p:cNvCxnSpPr/>
          <p:nvPr/>
        </p:nvCxnSpPr>
        <p:spPr>
          <a:xfrm flipH="1">
            <a:off x="3428280" y="4428720"/>
            <a:ext cx="429480" cy="4294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3" name="15 Conector recto de flecha"/>
          <p:cNvCxnSpPr/>
          <p:nvPr/>
        </p:nvCxnSpPr>
        <p:spPr>
          <a:xfrm flipH="1" flipV="1">
            <a:off x="3142800" y="2785320"/>
            <a:ext cx="572400" cy="4294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4" name="16 Rectángulo redondeado"/>
          <p:cNvSpPr/>
          <p:nvPr/>
        </p:nvSpPr>
        <p:spPr>
          <a:xfrm>
            <a:off x="857160" y="1643040"/>
            <a:ext cx="2357640" cy="10717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6.Historia</a:t>
            </a:r>
            <a:r>
              <a:rPr b="0" lang="es-E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Univers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carr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1143000" y="428760"/>
          <a:ext cx="7000920" cy="6065640"/>
        </p:xfrm>
        <a:graphic>
          <a:graphicData uri="http://schemas.openxmlformats.org/drawingml/2006/table">
            <a:tbl>
              <a:tblPr/>
              <a:tblGrid>
                <a:gridCol w="1751040"/>
                <a:gridCol w="1749240"/>
                <a:gridCol w="1751040"/>
                <a:gridCol w="174960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SPEC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METO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92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TECNICA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FUENT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9ec2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mpleabilidad de la carrer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blación me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jeto de estud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106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ipo  de concepción curricula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1308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isión y Misió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 la universidad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 la carrer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isto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NA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arre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857160" y="122400"/>
          <a:ext cx="7500960" cy="6696000"/>
        </p:xfrm>
        <a:graphic>
          <a:graphicData uri="http://schemas.openxmlformats.org/drawingml/2006/table">
            <a:tbl>
              <a:tblPr/>
              <a:tblGrid>
                <a:gridCol w="1500120"/>
                <a:gridCol w="1500480"/>
                <a:gridCol w="1500120"/>
                <a:gridCol w="1500120"/>
                <a:gridCol w="150012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SPEC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METOD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92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TECNIC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STRU-MEN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9e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FUENTE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9ec2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mpleabilidad de la carrer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scrip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o reac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serv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chas manuales o vir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ibr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puest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form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94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blación me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scrip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o reac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serv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chas manuales o vir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ibr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puest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form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jeto de estud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scrip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o reac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serv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chas manuales o vir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ibr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puest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form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96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ipo  de concepción curricula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scrip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o reac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serv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chas manuales o vir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ibr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puest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form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isión y Misió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 la universida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 la carrer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ermenéutic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ialectic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servació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uí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os ofici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puest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form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isto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NAH 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arre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scrip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o reactivo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lec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serv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ntrevist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chas manuales o vir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estionar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os ofici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rsonas involucrad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1 Título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PASO 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Hagamos una carpeta  en  wor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Póngale título: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           </a:t>
            </a: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DIAGNÓSTICO  INTERN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7T13:25:50Z</dcterms:created>
  <dc:creator>Luis</dc:creator>
  <dc:description/>
  <dc:language>en-US</dc:language>
  <cp:lastModifiedBy>Sitio Vicerrectoría Académica</cp:lastModifiedBy>
  <dcterms:modified xsi:type="dcterms:W3CDTF">2018-03-21T21:47:21Z</dcterms:modified>
  <cp:revision>25</cp:revision>
  <dc:subject/>
  <dc:title>EL DIAGNÓSTICO EXTERNO</dc:title>
</cp:coreProperties>
</file>